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F03-B5EC-455C-B814-1729AE0A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B0EB-C469-4D40-9A85-95D2116E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67C-582A-49A3-AE25-716868F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BA1-EE43-4B31-8157-F55AAD99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08A-97A5-4C5F-B6DA-68036C4E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5FC-7CC3-4883-9D7D-60F8F85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3DA-6DFB-4C25-B884-5BA3437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ECE-710D-4831-A0FF-547B77B6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306-E480-431E-B5FB-C8F43F6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319-F613-41FA-BBCC-6EFAB73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571-F36B-4252-A4ED-FA02BA7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7E6-6320-4FC4-BECE-E40740FE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165-66F1-4CF7-87D3-4F73596F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hniques &amp; procedures for manipulating and transmitting files used in a virtual team enviro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scrambl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receiver needs a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division of web server into hierarchies, eg. main, secure and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website, uses https, and connects to port 4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 detec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s often as updat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, backup all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l used with full b/up &amp; work with only 2 sets of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backup, used with full b/up but uses &gt; 2 sets of backup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strategy, daily, weekly and mon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, type of file, date, revision no. of document, department name, creators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equential file-na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&amp; Transmit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ith virtual teams need this control otherwise accidentally deleting or changing may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sequential file-naming strategy to clearly identify most recent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Dreamweaver, Check In/Check Out function; file is “checked out” by editor &amp; cannot be altered by anyone else until it is “checked” in after e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10T01:26:49Z</dcterms:modified>
  <cp:revision>8</cp:revision>
  <dc:subject/>
  <dc:title>Components of Computer System:  </dc:title>
</cp:coreProperties>
</file>